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2CED-57A4-49A3-ABF8-C4279ABB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17F5-109D-46F6-8AAF-680AAB45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D011-5614-44C0-8A0F-0203A1DB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9858-3108-44C9-A632-A033CE1E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E22A-C01A-41F6-8562-6981BCA1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C9AD-B82B-4E45-B189-6879F48B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F9C1-5CD3-41F2-B4E7-49B347D4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6A39-52C4-486B-BD55-A2D2ED45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4F31-E40A-4DD4-89FD-056EB27C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CA52-A362-46AE-BF0B-A0AFE375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81EC-7F2E-402D-91B6-A597D222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AC38-699C-47E7-901B-50CAB5F0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BDEC-B611-4C13-983D-BAAD280BE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"/>
              </a:rPr>
              <a:t>ACIDI NUCLEI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DNA-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"/>
              </a:rPr>
              <a:t>ACIDO DEOSSIRIBONUCLE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’acido deossiribonucleico, o DNA è un polimero costituito da unità base chiamate </a:t>
            </a:r>
            <a:r>
              <a:rPr b="1" lang="it-IT" sz="1400" spc="-1" strike="noStrike">
                <a:solidFill>
                  <a:srgbClr val="0033cc"/>
                </a:solidFill>
                <a:latin typeface="Lucida Handwriting"/>
              </a:rPr>
              <a:t>nucleoti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Unicode MS"/>
              </a:rPr>
              <a:t>Ciascun nucleotide è costituito da tre par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Unicode MS"/>
              </a:rPr>
              <a:t>Una base azotata tra adenina, timina, citosina, guan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Unicode MS"/>
              </a:rPr>
              <a:t>Un gruppo fosf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Unicode MS"/>
              </a:rPr>
              <a:t>Uno zucchero a 5 atomi di carbonio chiamato deossiribos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Unicode MS"/>
              </a:rPr>
              <a:t>Le basi azotate sono complementari a due a due ed unite dal </a:t>
            </a:r>
            <a:r>
              <a:rPr b="1" lang="it-IT" sz="1400" spc="-1" strike="noStrike">
                <a:solidFill>
                  <a:srgbClr val="0033cc"/>
                </a:solidFill>
                <a:latin typeface="Lucida Handwriting"/>
              </a:rPr>
              <a:t>legame idrogeno</a:t>
            </a:r>
            <a:r>
              <a:rPr b="1" lang="it-IT" sz="1400" spc="-1" strike="noStrike">
                <a:solidFill>
                  <a:srgbClr val="000000"/>
                </a:solidFill>
                <a:latin typeface="Arial Unicode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Unicode MS"/>
              </a:rPr>
              <a:t>gli abbinamenti so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Arial Unicode MS"/>
              </a:rPr>
              <a:t>Adenina-tim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Arial Unicode MS"/>
              </a:rPr>
              <a:t>Guanina-citos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Unicode MS"/>
              </a:rPr>
              <a:t>La forma caratteristica del DNA è la </a:t>
            </a:r>
            <a:r>
              <a:rPr b="1" lang="it-IT" sz="1400" spc="-1" strike="noStrike">
                <a:solidFill>
                  <a:srgbClr val="ff0000"/>
                </a:solidFill>
                <a:latin typeface="Arial Unicode MS"/>
              </a:rPr>
              <a:t>doppia 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62440" y="2052720"/>
            <a:ext cx="3810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"/>
              </a:rPr>
              <a:t>Acido ribonucle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’acido ribonucleico si differenzia dal DNA p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La base azotata uracile al posto della tim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Lo zucchero ribosio al posto del deossiribos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La forma costituita da un’unica 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"/>
              </a:rPr>
              <a:t>Duplicazione del 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ma che la cellula si divida deve avvenire la duplicazione del DNA; questo processo si può riassumere nelle seguenti tapp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doppia elica si srotola e si apre per la rottura dei legami idrog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’enzima DNA polimerasi associa a ciascun filamento del DNA originario nuovi nucleotidi seguendo la complementarietà delle ba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 termine del processo si formeranno due nuovi filamenti di DNA che si riavvolgeranno a doppia elica attorno ai filamenti origin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duplicazione si dice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emiconservativ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 quanto le due nuove molecole di DNA saranno costituite per il 50% da DNA “vecchio” e dal 50% da DNA nuo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43600" y="1600200"/>
            <a:ext cx="3246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5:48:50Z</dcterms:created>
  <dc:creator>-</dc:creator>
  <dc:description/>
  <dc:language>en-US</dc:language>
  <cp:lastModifiedBy>-</cp:lastModifiedBy>
  <dcterms:modified xsi:type="dcterms:W3CDTF">2013-04-10T16:01:13Z</dcterms:modified>
  <cp:revision>2</cp:revision>
  <dc:subject/>
  <dc:title>ACIDI NUCLEICI</dc:title>
</cp:coreProperties>
</file>